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3D6-C0A8-4C56-9D4E-F343C31E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CA5-1BBC-4B5F-A3E6-2A5D4F9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DEC-B527-418E-A294-F3444D60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F21-4DCC-476B-A07D-74BB12CF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D327-11F9-47A9-B7E6-F4221B2F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3A63-F8D4-48C0-85F1-1E09CA8D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1D00-3C79-4A28-9006-750F064C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49B1-2B8E-4EA2-B889-89A32F98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23E2-C8B0-40E3-AFEB-0953C054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13EE-E99C-4CAB-AEA8-E10181FD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1875-3CEF-439A-92E9-0FA9C128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1DF-1B12-4F20-A9B9-4C1FF221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4875-11ED-4728-9BAB-AD1C88ED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115D-E0CE-4438-9E41-BB070FF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B4F1-5E57-4062-AD12-BFA86D50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AA2-92C6-401B-B721-244EAC72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A12C-029F-4510-A369-0CE0648C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110-2960-49D8-9E98-E9094B48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6BC-94D9-4BF6-A5C2-D1AC4DC5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AAA-2B07-4037-903B-651DBBEF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CA3-7C61-403A-A7D0-6BE9C822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043-3E5F-400A-9B13-8E0F1C00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F21-3A2A-4A25-84C2-0005BF0B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50F-CFF6-42CB-A63A-F0531519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374E-01B8-4B22-82FC-87E8488C4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DD61-5F0C-4A8E-A708-2D7FB9F7C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.wikipedia.org/wiki/9_august" TargetMode="External"/><Relationship Id="rId3" Type="http://schemas.openxmlformats.org/officeDocument/2006/relationships/hyperlink" Target="http://ro.wikipedia.org/wiki/1601" TargetMode="External"/><Relationship Id="rId4" Type="http://schemas.openxmlformats.org/officeDocument/2006/relationships/hyperlink" Target="http://ro.wikipedia.org/wiki/Turda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www.google.ro/imgres?imgurl=http://fs.destinatiituristice.ro/c883c4100aee83fa8b317f61b77995f4.jpg&amp;imgrefurl=http://www.destinatiituristice.ro/article/14501/Mormantul-lui-Mihai-Viteazul&amp;usg=__8MMe7DG5r-RZKXJFSiXw3BltoXI=&amp;h=436&amp;w=500&amp;sz=95&amp;hl=ro&amp;start=6&amp;zoom=1&amp;itbs=1&amp;tbnid=m0DUCDzIxXa39M:&amp;tbnh=113&amp;tbnw=130&amp;prev=/images%3Fq%3Dmonumentul%2Blui%2Bmihai%2Bviteazul%2Bturda%26hl%3Dro%26sa%3DG%26gbv%3D2%26tbs%3Disch: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ro.wikipedia.org/wiki/1558" TargetMode="External"/><Relationship Id="rId9" Type="http://schemas.openxmlformats.org/officeDocument/2006/relationships/hyperlink" Target="http://ro.wikipedia.org/wiki/T&#226;rgul_de_Floci" TargetMode="External"/><Relationship Id="rId10" Type="http://schemas.openxmlformats.org/officeDocument/2006/relationships/hyperlink" Target="http://ro.wikipedia.org/wiki/T&#226;rgul_de_Floci" TargetMode="External"/><Relationship Id="rId11" Type="http://schemas.openxmlformats.org/officeDocument/2006/relationships/hyperlink" Target="http://ro.wikipedia.org/wiki/T&#226;rgul_de_Floci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IHAI VITEAZUL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040" y="3123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: Pasca Io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ala: ,, Simion Balint” Copaceni, jud. Clu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a : a IV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201456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2819520"/>
            <a:ext cx="731844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 miseleste in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9 aug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16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Tur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lu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600200" y="457200"/>
            <a:ext cx="2014560" cy="219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4120" y="3733920"/>
            <a:ext cx="3200400" cy="2781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33920" y="1219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scut in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155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Târgul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 de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Floc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alom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3962520"/>
            <a:ext cx="80805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urtat razboaie cu turci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usit ceea ce nici un alt domnitor roman nu izbutise pana atunci: unirea celor trei tari romane pe o perioada de 1 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4429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Cine e Mihai Viteazul din lectura pe care am citit-o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243504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a Hasan, de G. Cosbu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iteaz,curajos, demn, priceput si cu spirit de sacrifici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43:03Z</dcterms:created>
  <dc:creator>rodinaloredana</dc:creator>
  <dc:description/>
  <dc:language>en-US</dc:language>
  <cp:lastModifiedBy>rodinaloredana</cp:lastModifiedBy>
  <dcterms:modified xsi:type="dcterms:W3CDTF">2010-08-25T12:30:51Z</dcterms:modified>
  <cp:revision>6</cp:revision>
  <dc:subject/>
  <dc:title>MIHAI VITEAZU</dc:title>
</cp:coreProperties>
</file>